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71C-6BF7-4DBF-A9D2-F63CA6AA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54D-93F2-43F7-8640-7B83466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CCF-BE62-4024-9F84-31B5D894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B34-AC79-4B71-AD5F-8DA9FBD0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12FF6-56EB-410A-9EDA-9E4E3F61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25112-93C5-4CED-9E88-D5B78C08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093E6-A784-4538-AFAE-45BDE296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DE613-D87E-4BA6-AE85-7B9F0766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5332E-E63B-4ACE-8C8E-965821C2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3378F-279C-4AC0-B0DF-446DF9CF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4580E-264A-4074-AD84-D8BB28B3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580-22E2-40AF-8863-04D8CA6B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AE497-DBB2-4FDA-A75C-342E6279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11716-E450-4BA9-B747-F4155902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DBF81-13D7-4FB8-9D98-33B39978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D3A8C-39B2-4BA5-A1D4-29BFC370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B1FB8-5A53-4BD9-ADD1-ED5993A3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5649-A4AF-4936-B6BE-B2EFCA8A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E2FF-9B6F-4077-874B-5F8B0A66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702C-F9D3-48CF-884A-299A80D7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B45A-0196-4469-A2EF-33CBB2A3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BBD2-B57C-4B21-9C60-7FDD2B4E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355-8AC7-4003-AD84-FAD7882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019C-E06D-410C-B07C-59AC3BC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C23B-7484-4106-B329-9EE0F11D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9E0E-952E-4D74-9906-5AE27F8B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0875-E93B-4E7C-9ABB-4D7421B6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4E78-6387-4F07-B0E6-76C4CABB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27282-F57B-4283-944A-47AB300A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502A-7268-42EE-9187-A2F7A7CC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A6BC-9116-4E1F-BA78-9ABFCB1D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7AE97-1CC7-4DF0-A867-A0C64304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32FC-127F-44FE-8AD0-CDFD0FF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7BE-4A56-45B8-AD7D-F8E8C4C0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D83E-D916-48EF-A002-B17189AB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0CE3-9DD0-4879-85BC-C53D6292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0ABA-1B87-4F56-AC11-2402F6B0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9D1E7-5973-4AB0-B9C0-87FC7F68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B1EE-2F0C-4C58-87BF-893FFE0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8559-C72B-4E27-929A-36F31931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4BE40-990F-4676-BA1E-EFC958EC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C405-8CF7-41C5-B4C0-1F428501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2ED4-152E-4C5E-80B1-DAD00BDA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37F-80C8-494B-982A-BB41C3D8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AEF-8ADD-4E78-B040-BCB4DE20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EE5-A91A-44E6-AE9A-1C9A09BD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40C-37F7-4A10-9CFB-5720315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B56-5BD0-4458-8E62-37D9B2D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8736-6303-4124-AFDB-8FEF21A81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FA98-9D0C-4027-B104-58A07AEDA3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9F17-369E-4250-A3E7-27D468F9C80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311D-092E-46A9-BDC9-B70DF1CDD1F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as Comidas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By, Jonathan Lev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1523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752480"/>
            <a:ext cx="5315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ject by Jonathan Le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igns by Jonathan Le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ctures found on Google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ctures Inserted by Jonathan Le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lide designs by Jonathan Le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lide Transition Animations by Jonathan Lev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7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cc00"/>
                </a:solidFill>
                <a:latin typeface="Arial"/>
              </a:rPr>
              <a:t>El Desayuno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1581120" cy="1676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60948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uevo-fr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457200" y="40384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33520" y="3657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d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a7d00"/>
                </a:solidFill>
                <a:latin typeface="Arial"/>
              </a:rPr>
              <a:t>Toc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2895480" y="2286000"/>
            <a:ext cx="2438640" cy="2144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355200" y="159948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63416"/>
                </a:solidFill>
                <a:latin typeface="Arial"/>
              </a:rPr>
              <a:t>brind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6095880" y="3200400"/>
            <a:ext cx="2590920" cy="2309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6248520" y="2726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aa02"/>
                </a:solidFill>
                <a:latin typeface="Arial"/>
              </a:rPr>
              <a:t>jugo de naranj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306000" y="303840"/>
            <a:ext cx="46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30559"/>
                </a:solidFill>
                <a:latin typeface="Arial"/>
              </a:rPr>
              <a:t>hamburguesa con papas fritas</a:t>
            </a:r>
            <a:r>
              <a:rPr b="0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541008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n Coca-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-609480" y="-1522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657600" cy="24289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54320" y="1370520"/>
            <a:ext cx="46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istec con papas al horno y verd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5257800" y="2133720"/>
            <a:ext cx="1523880" cy="26096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953600" y="16754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Un te helado</a:t>
            </a:r>
            <a:r>
              <a:rPr b="0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28:59Z</dcterms:created>
  <dc:creator>andujarlevyjon</dc:creator>
  <dc:description/>
  <dc:language>en-US</dc:language>
  <cp:lastModifiedBy>andujarlevyjon</cp:lastModifiedBy>
  <dcterms:modified xsi:type="dcterms:W3CDTF">2012-04-05T17:14:54Z</dcterms:modified>
  <cp:revision>4</cp:revision>
  <dc:subject/>
  <dc:title>        Las Comidas </dc:title>
</cp:coreProperties>
</file>